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4.wmf" ContentType="image/x-wmf"/>
  <Override PartName="/ppt/media/image27.jpeg" ContentType="image/jpeg"/>
  <Override PartName="/ppt/media/applause.wav" ContentType="audio/x-wav"/>
  <Override PartName="/ppt/media/image21.jpeg" ContentType="image/jpeg"/>
  <Override PartName="/ppt/media/chimes.wav" ContentType="audio/x-wav"/>
  <Override PartName="/ppt/media/image19.jpeg" ContentType="image/jpeg"/>
  <Override PartName="/ppt/media/image14.wmf" ContentType="image/x-wmf"/>
  <Override PartName="/ppt/media/image6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7.jpeg" ContentType="image/jpeg"/>
  <Override PartName="/ppt/media/image31.wmf" ContentType="image/x-wmf"/>
  <Override PartName="/ppt/media/image7.jpeg" ContentType="image/jpeg"/>
  <Override PartName="/ppt/media/image12.jpeg" ContentType="image/jpeg"/>
  <Override PartName="/ppt/media/image13.png" ContentType="image/png"/>
  <Override PartName="/ppt/media/camera.wav" ContentType="audio/x-wav"/>
  <Override PartName="/ppt/media/image9.jpeg" ContentType="image/jpeg"/>
  <Override PartName="/ppt/media/image30.jpeg" ContentType="image/jpeg"/>
  <Override PartName="/ppt/media/image11.wmf" ContentType="image/x-wmf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3.jpeg" ContentType="image/jpeg"/>
  <Override PartName="/ppt/media/image28.wmf" ContentType="image/x-wmf"/>
  <Override PartName="/ppt/media/image1.png" ContentType="image/png"/>
  <Override PartName="/ppt/media/image15.wmf" ContentType="image/x-wmf"/>
  <Override PartName="/ppt/media/image22.jpeg" ContentType="image/jpeg"/>
  <Override PartName="/ppt/media/image16.wmf" ContentType="image/x-wmf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9F13-3F69-401C-937D-8CDC6FAB0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8E61-2020-4F67-8808-C4AAAC4DF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9F12-9E8C-4EB8-BC4E-B21793A5A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86AC-A95A-47CD-8E86-1506F674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7E5263-4802-40DF-B158-DA554E1E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585525-F575-4063-904A-3F1109DF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1149D7-0506-4569-ABE4-C8EC5C0C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645499-B654-42CD-B321-CE43DEEB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76F93D-2C0F-48C8-83ED-701E8514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20280A-D2D3-4744-B834-63F04FAB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DAEFCC-59C5-4855-823F-FD7BB424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676DD6-199A-4ED4-82F8-A3A6AC91E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54E650-771E-423C-8A1A-4FD217B89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ADAA38-E1C3-4E5A-9CCD-8FA318CF8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00A8-00C4-432E-B737-D63C83923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E02209-6672-4B8C-B3E2-CB2ED326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173FC4-A140-472D-9FE2-B76929EE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EC5053-C900-46C8-A462-222E6E3F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DCD418-BC06-440D-A3CC-45B77F1F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732B20-72F6-453B-A6D0-3ED24096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9DE7BB-6606-4E78-A149-B7B95FDD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85C0B8-F0A5-492A-9ED3-BBBC0F88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0CA2AA-009A-4739-AF11-90DB85AE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AD3266-B8B4-433F-A720-353367CE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114D53-4C56-4DCA-8971-562E6DFB5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36B6-1028-4BE4-8B2D-95A56C66A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1F93AC-48CE-4563-B650-FB51A15E9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5C083-8391-4539-B075-5DE14BEAA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D05F75-0E7D-4F63-91A4-096750F59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A779EC-8864-46B6-B489-2B173E5F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58649-8373-4131-B941-10CB6835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FCA6A-2F45-43FA-8374-1FB7CCFC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00503-B9D9-4ACB-B6D5-DCA2326E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32768-9DDE-4356-B9C4-93B5A6D9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558853-C61E-4FB5-9599-C3822A3A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75829-53DF-432E-BF27-479CB650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FB89-1432-49A3-9B69-2A95DE2DF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ABAEF-DF49-432C-922A-95804B05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3F7FC-228C-4ED4-B0C6-244DD3930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CB09C-8735-4F86-951F-C0D054BAE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51F01E-4453-4960-A92A-83DAB5148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BFB3E7-010B-4673-9589-CFDD8CFB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FC757B-72BE-4610-8902-9CAB0B2B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118DF4-3B71-45F8-B539-A1F2541A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7C7A28-EDC5-4A42-850F-EC3A8290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83E763-5AA4-499D-936D-7E21C2AD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1A0F77-9A47-41D8-9C19-DA3B577E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D970-659B-4453-9318-21FC8985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8BCF60-9A7F-4D30-A79D-3D7F9891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C5F5D7-B10E-485D-99B6-A06B62BC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B060B2-E095-45B0-B52E-DB8F4467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1F791E-25EF-4490-B556-A99299516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C329CF-F665-436D-9A78-77877BABB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598E26-1474-4F20-AC60-06A6F1A45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E526FA-C2A3-4035-A49C-04F2031C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A3D87A-9F09-43A8-B796-BBF20769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1C55D5-7DBD-485D-B267-077856AD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A1B3A2-1AC3-41C9-A5EF-852437A4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AEA35-9497-4314-A031-20AAD41F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9E2EF0-F314-481C-8854-1EBB4D37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EF583C-51E4-43B0-AB6E-D94691FD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1654ED-D96D-4404-B3F2-110D0BEB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90AF66-A14A-416B-B319-98F44FA7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55494C-B5A3-492A-8CBB-3F70CE33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E4177D-63C4-45D1-A768-93847BE69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3E583B-F98E-421D-BDB8-03685828E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E1A2-16DC-42D6-9470-CC018F4B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D0E0-6B1F-4429-9E3E-A9D34EB5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1EB07-C963-4D96-A528-91AE533C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285E-60A2-4B8C-B884-A70E9248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DC15-A6E7-47FF-9FB2-F91FF600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71A95-D17E-4B01-9409-7531C040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A3F62-0E6C-454A-9A4B-6AD3AB6E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C484-0CCF-428A-B803-36161161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AB6E-6B34-46BD-AB88-05ED9DFA0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0712-F545-4E39-B422-AC1A781E8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B351E-3534-4684-8073-6A4901D07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6A56C-7D50-49E3-8AA5-8770879F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16570-9C1E-47C2-ADB8-B8233865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41CE3-000A-456C-AD93-DCAC70C2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364F3-AAA3-472E-8068-F4072544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9697-056B-48C1-A933-87C14624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8A87C-0EC6-4E02-88FC-268FBFEA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DA9B0-2673-4A86-A4E1-08D964C9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0D7C1-3D77-411C-B33E-10B29B8E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8B20D-026C-4778-A504-618F7187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D40EF-3EF5-4E4F-B06F-3AC2CACA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4E29F-F54C-4B14-8402-EC5527BC6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6B5E8-8466-44BE-AEFF-2DA4879BA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FC54B-BC48-43B1-9589-C399512B8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95642-BDE5-48B5-B8EE-953A126C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757D8-E808-4AD2-8378-0122094A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F21B-04C3-4A39-843C-87728C8C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41B6D-041D-453B-AD77-05317FB2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33B73-CA3C-4869-8DF8-E3EFCC8F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D44E9-8216-4BC7-A84E-AEC5316B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2DF70-D931-42B0-A77A-CA3924B0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F4980-C024-45CE-BB27-BBDD6B0E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B15A7-679F-4374-A0CA-79EADC73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80D0A-6AB4-4029-81E9-4B43464D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B737E-4395-48C5-A766-404A64ABA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687FD-F0BC-4579-9F9F-9DBAEC29D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26E8A-FF06-4E2D-81C1-BF8FF930E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D995-BE6D-4719-913B-48266A82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141FA-0724-4A48-834B-A0ED4D8D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02545-53E5-4AFB-801C-6F5D6B83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EBBAE-F7CF-4886-BE9F-30EECB21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7490C-D4B7-4C4D-B2EE-0DFD2304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0D556-14C2-4407-8B43-B79BB13E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0DF1B-0040-4990-B398-93E82759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69F9D-D6E7-4150-8761-D9A8555C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4FCEB-0CC1-4D1A-8780-315BB618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85512-DB9C-49BC-80F0-53D09637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9B038-2283-431D-8FEC-FA22EBEF9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0A5B-2631-48A6-B276-2D713EF1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81CAA-C1BB-4B76-B095-7786A2410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66BA2-CBBD-481B-8642-91CB3BBDC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B3F88-0660-4B60-A803-EBDBAFBA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12C58-7F4A-4CDE-AF89-798798C5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38137-4E8F-4CDD-80A5-855A3D2B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C544A-B4AA-4873-818B-1F61CD54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BBBA7-062C-4FA5-9517-84E66F9A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80299-3088-4747-87F0-FD3E3C6F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EAEDA-2A85-44F5-9D96-49033F11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0CAAB-B0F3-4F13-AF31-E79EAF50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A5E6-AA52-42FE-8B3E-D8360E0B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80C33-501F-4639-BB1C-1016F4EC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EBF2F-CA05-4723-8DB5-E486332A6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3517A-5513-40E6-923B-866799859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89DF5-417E-45DE-8235-4A82F00D8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4C5AF-0587-47EB-B369-9580933F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09172-B295-47D0-B44E-8576F7F2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09121-E286-4991-A315-699D52C5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243C3-A889-4335-BEB4-C4823305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627D6-4028-49A0-9D6A-EDA3A56E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50A08-5816-4C9D-A1F3-04BA1318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2D5D-3FDF-4B9A-892F-20E64357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454D6-ACC2-4197-BBBC-AA1F3660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5027A-C4B4-4815-BB84-003D3163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5CBF0-ADCA-47E5-A94D-453A3E09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6165C-9E40-4193-8EF4-987EB2C3F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63B53-70E4-43D5-8270-D6C1A9434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5E8E6-E617-44B8-BA62-F58C27C4F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30FEF-9411-44F2-84EC-23449CF2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FE1BD-DBF7-474C-A288-9D10634B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DDCEB-E825-4CB7-8696-60107107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85E4C-EECF-4726-92FA-E07C5CB6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2BCD-8412-4A60-9E5E-6EFDFEAC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F4821-FDAE-4495-97A3-073247C8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2BA84-7D23-4EC3-8D6A-246931EC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81AF2-C038-4487-BE03-50626963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0F65A-DF5E-45F0-911B-9687A638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431A5-570F-404B-923F-CCB40489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48672-BC8F-4374-A330-DF94C08AE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55A79-76C4-43FB-8FDC-6B738A4A8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EC67D8-EEF5-446F-BA33-85052669F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B56A26-7CAD-4C3E-9E26-6B1B1042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90A84E-D044-4378-B6FB-2531CE53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3933-585C-492B-8980-A831DAD1A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003B-7430-4D86-A88F-DC4CF719B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F208-C727-47C0-AF0A-C8BFD21F5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0B33-5745-4F70-A970-B8F04F99A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6F8E-A273-43EF-8FF9-EF0858AD2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186F-E45F-4944-B1AE-94855DDFA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4835-E1B6-46A1-BA10-E78BC0697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A2FF-8592-4313-8DC4-E81AB5F1A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1AF1-E22C-40C5-BFF6-67D8D03AD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79F7-E55F-41A1-9DA5-350BB7F62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BA71-4550-472E-84AC-43C043A47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DB3E-27FB-4960-BC01-33C7910DD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B02E-F92E-45FC-A12C-5BD9E8941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19.xml"/><Relationship Id="rId3" Type="http://schemas.openxmlformats.org/officeDocument/2006/relationships/image" Target="../media/image20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jpeg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55627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anklin Gothic Medium"/>
              </a:rPr>
              <a:t>If the Book Fits, Read It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ing a Good Fit 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1"/>
          <p:cNvSpPr/>
          <p:nvPr/>
        </p:nvSpPr>
        <p:spPr>
          <a:xfrm>
            <a:off x="5257800" y="51814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Barbara A. Smith Carolina Forest Elementary  Grad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10" descr="MCj04391420000[1]"/>
          <p:cNvPicPr/>
          <p:nvPr/>
        </p:nvPicPr>
        <p:blipFill>
          <a:blip r:embed="rId1"/>
          <a:stretch/>
        </p:blipFill>
        <p:spPr>
          <a:xfrm>
            <a:off x="380880" y="528480"/>
            <a:ext cx="8229600" cy="6329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544" name="Picture 13" descr="MPj04394490000[1]"/>
          <p:cNvPicPr/>
          <p:nvPr/>
        </p:nvPicPr>
        <p:blipFill>
          <a:blip r:embed="rId2"/>
          <a:stretch/>
        </p:blipFill>
        <p:spPr>
          <a:xfrm>
            <a:off x="6095880" y="1371600"/>
            <a:ext cx="1878120" cy="2819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45" name="TextBox 6"/>
          <p:cNvSpPr/>
          <p:nvPr/>
        </p:nvSpPr>
        <p:spPr>
          <a:xfrm>
            <a:off x="1066680" y="5410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aily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random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201132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nk about the purpose for your book. To write a report 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urtles would you read 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6"/>
          <p:cNvSpPr/>
          <p:nvPr/>
        </p:nvSpPr>
        <p:spPr>
          <a:xfrm>
            <a:off x="3581280" y="3962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7"/>
          <p:cNvSpPr/>
          <p:nvPr/>
        </p:nvSpPr>
        <p:spPr>
          <a:xfrm>
            <a:off x="1905120" y="403848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7" descr="turtles.jp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5257800" y="2666880"/>
            <a:ext cx="2438280" cy="33292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8" descr="Franklin Goes to School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143000" y="2666880"/>
            <a:ext cx="2971800" cy="3260880"/>
          </a:xfrm>
          <a:prstGeom prst="rect">
            <a:avLst/>
          </a:prstGeom>
          <a:ln w="0">
            <a:noFill/>
          </a:ln>
        </p:spPr>
      </p:pic>
      <p:pic>
        <p:nvPicPr>
          <p:cNvPr id="581" name="014B9952.WAV" descr=""/>
          <p:cNvPicPr/>
          <p:nvPr/>
        </p:nvPicPr>
        <p:blipFill>
          <a:blip r:embed="rId4"/>
          <a:stretch/>
        </p:blipFill>
        <p:spPr>
          <a:xfrm>
            <a:off x="4419720" y="32004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5" descr="MPj03142960000[1]">
            <a:hlinkClick r:id="rId1" action="ppaction://hlinksldjump"/>
          </p:cNvPr>
          <p:cNvPicPr/>
          <p:nvPr/>
        </p:nvPicPr>
        <p:blipFill>
          <a:blip r:embed="rId2">
            <a:alphaModFix amt="67000"/>
          </a:blip>
          <a:stretch/>
        </p:blipFill>
        <p:spPr>
          <a:xfrm>
            <a:off x="1066680" y="990720"/>
            <a:ext cx="3657600" cy="1834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583" name="Picture 6" descr="MPPH03447I0000[1]"/>
          <p:cNvPicPr/>
          <p:nvPr/>
        </p:nvPicPr>
        <p:blipFill>
          <a:blip r:embed="rId3"/>
          <a:stretch/>
        </p:blipFill>
        <p:spPr>
          <a:xfrm>
            <a:off x="3505320" y="3276720"/>
            <a:ext cx="3657600" cy="24620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84" name="Text Box 7"/>
          <p:cNvSpPr/>
          <p:nvPr/>
        </p:nvSpPr>
        <p:spPr>
          <a:xfrm>
            <a:off x="5334120" y="762120"/>
            <a:ext cx="3276360" cy="204372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 RIGHT! You want to read about REAL turtl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/>
    <p:sndAc>
      <p:stSnd>
        <p:snd r:embed="rId4" name="applaus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37160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you have these sho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your clos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5" descr="MPj04048860000[1]"/>
          <p:cNvPicPr/>
          <p:nvPr/>
        </p:nvPicPr>
        <p:blipFill>
          <a:blip r:embed="rId1"/>
          <a:stretch/>
        </p:blipFill>
        <p:spPr>
          <a:xfrm>
            <a:off x="914400" y="2438280"/>
            <a:ext cx="3352680" cy="2395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587" name="Picture 11" descr="MCj04401990000[1]"/>
          <p:cNvPicPr/>
          <p:nvPr/>
        </p:nvPicPr>
        <p:blipFill>
          <a:blip r:embed="rId2"/>
          <a:stretch/>
        </p:blipFill>
        <p:spPr>
          <a:xfrm>
            <a:off x="5029200" y="2971800"/>
            <a:ext cx="3116160" cy="20844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147780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ght! Because you have a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est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5" descr="MPj04023300000[1]"/>
          <p:cNvPicPr/>
          <p:nvPr/>
        </p:nvPicPr>
        <p:blipFill>
          <a:blip r:embed="rId1"/>
          <a:stretch/>
        </p:blipFill>
        <p:spPr>
          <a:xfrm>
            <a:off x="5867280" y="1981080"/>
            <a:ext cx="2081160" cy="3121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90" name="Picture 6" descr="MPj04285240000[1]"/>
          <p:cNvPicPr/>
          <p:nvPr/>
        </p:nvPicPr>
        <p:blipFill>
          <a:blip r:embed="rId2"/>
          <a:stretch/>
        </p:blipFill>
        <p:spPr>
          <a:xfrm>
            <a:off x="533520" y="2438280"/>
            <a:ext cx="3890880" cy="2587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1" name="Text Box 8"/>
          <p:cNvSpPr/>
          <p:nvPr/>
        </p:nvSpPr>
        <p:spPr>
          <a:xfrm>
            <a:off x="1219320" y="5334120"/>
            <a:ext cx="2666880" cy="52056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9"/>
          <p:cNvSpPr/>
          <p:nvPr/>
        </p:nvSpPr>
        <p:spPr>
          <a:xfrm>
            <a:off x="5791320" y="5334120"/>
            <a:ext cx="2209680" cy="52056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47780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ose books that you are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est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3200400" cy="464796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st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o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l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r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o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5" descr="MPj04394930000[1]"/>
          <p:cNvPicPr/>
          <p:nvPr/>
        </p:nvPicPr>
        <p:blipFill>
          <a:blip r:embed="rId1"/>
          <a:stretch/>
        </p:blipFill>
        <p:spPr>
          <a:xfrm>
            <a:off x="4343400" y="2895480"/>
            <a:ext cx="3886200" cy="2594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96" name="91A84892.WAV" descr=""/>
          <p:cNvPicPr/>
          <p:nvPr/>
        </p:nvPicPr>
        <p:blipFill>
          <a:blip r:embed="rId2"/>
          <a:stretch/>
        </p:blipFill>
        <p:spPr>
          <a:xfrm>
            <a:off x="2286000" y="2895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7" name="7C7CB283.WAV" descr=""/>
          <p:cNvPicPr/>
          <p:nvPr/>
        </p:nvPicPr>
        <p:blipFill>
          <a:blip r:embed="rId3"/>
          <a:stretch/>
        </p:blipFill>
        <p:spPr>
          <a:xfrm>
            <a:off x="2590920" y="5105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98" name="C1F11934.WAV" descr=""/>
          <p:cNvPicPr/>
          <p:nvPr/>
        </p:nvPicPr>
        <p:blipFill>
          <a:blip r:embed="rId4"/>
          <a:stretch/>
        </p:blipFill>
        <p:spPr>
          <a:xfrm>
            <a:off x="2666880" y="4343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9" name="D52FCDA9.WAV" descr=""/>
          <p:cNvPicPr/>
          <p:nvPr/>
        </p:nvPicPr>
        <p:blipFill>
          <a:blip r:embed="rId5"/>
          <a:stretch/>
        </p:blipFill>
        <p:spPr>
          <a:xfrm>
            <a:off x="2590920" y="5867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00" name="MSj00822000000[1].mid" descr=""/>
          <p:cNvPicPr/>
          <p:nvPr/>
        </p:nvPicPr>
        <p:blipFill>
          <a:blip r:embed="rId6"/>
          <a:stretch/>
        </p:blipFill>
        <p:spPr>
          <a:xfrm>
            <a:off x="3124080" y="2209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01" name="B27ADEA9.WAV" descr=""/>
          <p:cNvPicPr/>
          <p:nvPr/>
        </p:nvPicPr>
        <p:blipFill>
          <a:blip r:embed="rId7"/>
          <a:stretch/>
        </p:blipFill>
        <p:spPr>
          <a:xfrm>
            <a:off x="2666880" y="3657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random/>
    <p:sndAc>
      <p:stSnd>
        <p:snd r:embed="rId8" name="camera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8955" fill="hold"/>
                                        <p:tgtEl>
                                          <p:spTgt spid="6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ke sure that you understand what you are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153280" cy="391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lastic hyoid, combined with the fibroelastic tissue on top of the big cats' undivided vocal folds, acts like a slide trombone, enabling the big cats to ro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4" descr="MCj04344030000[1]"/>
          <p:cNvPicPr/>
          <p:nvPr/>
        </p:nvPicPr>
        <p:blipFill>
          <a:blip r:embed="rId1"/>
          <a:stretch/>
        </p:blipFill>
        <p:spPr>
          <a:xfrm>
            <a:off x="3809880" y="4267080"/>
            <a:ext cx="1198800" cy="16797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that you know mos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 the wo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gers are the largest wild cat in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an weigh up to 720 po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cture 4" descr="MPj04364520000[1]"/>
          <p:cNvPicPr/>
          <p:nvPr/>
        </p:nvPicPr>
        <p:blipFill>
          <a:blip r:embed="rId1"/>
          <a:stretch/>
        </p:blipFill>
        <p:spPr>
          <a:xfrm>
            <a:off x="3048120" y="3124080"/>
            <a:ext cx="2971800" cy="2260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 PICK  a Good-Fit 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44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oose a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pose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 I want to read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terest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it interest 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prehend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I understand what I am reading?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know most of the words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0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0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0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0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appy Readin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15" descr="MPj04276860000[1]"/>
          <p:cNvPicPr/>
          <p:nvPr/>
        </p:nvPicPr>
        <p:blipFill>
          <a:blip r:embed="rId1"/>
          <a:stretch/>
        </p:blipFill>
        <p:spPr>
          <a:xfrm>
            <a:off x="1143000" y="1752480"/>
            <a:ext cx="7010280" cy="46389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wedge/>
    <p:sndAc>
      <p:stSnd>
        <p:snd r:embed="rId2" name="chimes.wav"/>
      </p:stSnd>
    </p:sndAc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2" descr="C:\Users\Barbara\AppData\Local\Microsoft\Windows\Temporary Internet Files\Content.IE5\E33YICPL\MCj04343890000[1]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666880" y="838080"/>
            <a:ext cx="3353040" cy="5284800"/>
          </a:xfrm>
          <a:prstGeom prst="rect">
            <a:avLst/>
          </a:prstGeom>
          <a:ln w="0">
            <a:noFill/>
          </a:ln>
        </p:spPr>
      </p:pic>
      <p:sp>
        <p:nvSpPr>
          <p:cNvPr id="613" name="TextBox 4"/>
          <p:cNvSpPr/>
          <p:nvPr/>
        </p:nvSpPr>
        <p:spPr>
          <a:xfrm>
            <a:off x="3276720" y="1219320"/>
            <a:ext cx="18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nk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55412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uld you ever wear a pair of shoes that were too large …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4" descr="MPj04317940000[1]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2514600" y="2286000"/>
            <a:ext cx="3886200" cy="38862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slow" advTm="5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5562720" cy="109692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r too small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4" descr="MPj04003050000[1]"/>
          <p:cNvPicPr/>
          <p:nvPr/>
        </p:nvPicPr>
        <p:blipFill>
          <a:blip r:embed="rId1"/>
          <a:stretch/>
        </p:blipFill>
        <p:spPr>
          <a:xfrm>
            <a:off x="3200400" y="2286000"/>
            <a:ext cx="2495520" cy="31212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slow" advTm="5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6324480" cy="160020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uld you wea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these shoes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4" descr="MPj04048860000[1]"/>
          <p:cNvPicPr/>
          <p:nvPr/>
        </p:nvPicPr>
        <p:blipFill>
          <a:blip r:embed="rId1"/>
          <a:stretch/>
        </p:blipFill>
        <p:spPr>
          <a:xfrm>
            <a:off x="2057400" y="2481120"/>
            <a:ext cx="4876920" cy="3484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552" name="MSj00822000000[1].mid" descr=""/>
          <p:cNvPicPr/>
          <p:nvPr/>
        </p:nvPicPr>
        <p:blipFill>
          <a:blip r:embed="rId2"/>
          <a:stretch/>
        </p:blipFill>
        <p:spPr>
          <a:xfrm>
            <a:off x="7467480" y="4876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955" fill="hold"/>
                                        <p:tgtEl>
                                          <p:spTgt spid="5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5486400" cy="99072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play football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2286000" y="1523880"/>
          <a:ext cx="4724280" cy="4602240"/>
        </p:xfrm>
        <a:graphic>
          <a:graphicData uri="http://schemas.openxmlformats.org/drawingml/2006/table">
            <a:tbl>
              <a:tblPr/>
              <a:tblGrid>
                <a:gridCol w="4724280"/>
              </a:tblGrid>
              <a:tr h="460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55" name="Picture 16" descr="MPj04305860000[1]"/>
          <p:cNvPicPr/>
          <p:nvPr/>
        </p:nvPicPr>
        <p:blipFill>
          <a:blip r:embed="rId1"/>
          <a:stretch/>
        </p:blipFill>
        <p:spPr>
          <a:xfrm>
            <a:off x="2514600" y="1676520"/>
            <a:ext cx="4267080" cy="4267080"/>
          </a:xfrm>
          <a:prstGeom prst="rect">
            <a:avLst/>
          </a:prstGeom>
          <a:ln w="0">
            <a:noFill/>
          </a:ln>
        </p:spPr>
      </p:pic>
      <p:pic>
        <p:nvPicPr>
          <p:cNvPr id="556" name="73E4A305.WAV" descr=""/>
          <p:cNvPicPr/>
          <p:nvPr/>
        </p:nvPicPr>
        <p:blipFill>
          <a:blip r:embed="rId2"/>
          <a:stretch/>
        </p:blipFill>
        <p:spPr>
          <a:xfrm>
            <a:off x="7467480" y="541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5638680" cy="155412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ould you wea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these sho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4" descr="MPj04049220000[1]"/>
          <p:cNvPicPr/>
          <p:nvPr/>
        </p:nvPicPr>
        <p:blipFill>
          <a:blip r:embed="rId1"/>
          <a:stretch/>
        </p:blipFill>
        <p:spPr>
          <a:xfrm>
            <a:off x="2209680" y="2209680"/>
            <a:ext cx="4800600" cy="3429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559" name="MSj03885380000[1].wav" descr=""/>
          <p:cNvPicPr/>
          <p:nvPr/>
        </p:nvPicPr>
        <p:blipFill>
          <a:blip r:embed="rId2"/>
          <a:stretch/>
        </p:blipFill>
        <p:spPr>
          <a:xfrm>
            <a:off x="7543800" y="495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8975" fill="hold"/>
                                        <p:tgtEl>
                                          <p:spTgt spid="5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99840" y="274680"/>
            <a:ext cx="6172200" cy="132552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walk the beach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4" descr="MPj04019860000[1]"/>
          <p:cNvPicPr/>
          <p:nvPr/>
        </p:nvPicPr>
        <p:blipFill>
          <a:blip r:embed="rId1"/>
          <a:stretch/>
        </p:blipFill>
        <p:spPr>
          <a:xfrm>
            <a:off x="2057400" y="2057400"/>
            <a:ext cx="5257800" cy="35035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562" name="77A86E32.WAV" descr=""/>
          <p:cNvPicPr/>
          <p:nvPr/>
        </p:nvPicPr>
        <p:blipFill>
          <a:blip r:embed="rId2"/>
          <a:stretch/>
        </p:blipFill>
        <p:spPr>
          <a:xfrm>
            <a:off x="8001000" y="5638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60020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? Then why read a book that doesn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 fit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7" descr="MPj04395080000[1]"/>
          <p:cNvPicPr/>
          <p:nvPr/>
        </p:nvPicPr>
        <p:blipFill>
          <a:blip r:embed="rId1"/>
          <a:stretch/>
        </p:blipFill>
        <p:spPr>
          <a:xfrm>
            <a:off x="3429000" y="2514600"/>
            <a:ext cx="2892600" cy="3733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620120" cy="137160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ery shoe has a purpose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you match the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4496040"/>
          </a:xfrm>
          <a:prstGeom prst="rect">
            <a:avLst/>
          </a:prstGeom>
          <a:solidFill>
            <a:srgbClr val="bbe0e3">
              <a:alpha val="77000"/>
            </a:srgbClr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525920"/>
          </a:xfrm>
          <a:prstGeom prst="rect">
            <a:avLst/>
          </a:prstGeom>
          <a:solidFill>
            <a:srgbClr val="bbe0e3">
              <a:alpha val="77000"/>
            </a:srgbClr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6" descr="MCj04400440000[1]"/>
          <p:cNvPicPr/>
          <p:nvPr/>
        </p:nvPicPr>
        <p:blipFill>
          <a:blip r:embed="rId1"/>
          <a:stretch/>
        </p:blipFill>
        <p:spPr>
          <a:xfrm>
            <a:off x="762120" y="2590920"/>
            <a:ext cx="1218960" cy="10476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9" descr="MPj04006520000[1]"/>
          <p:cNvPicPr/>
          <p:nvPr/>
        </p:nvPicPr>
        <p:blipFill>
          <a:blip r:embed="rId2"/>
          <a:stretch/>
        </p:blipFill>
        <p:spPr>
          <a:xfrm>
            <a:off x="762120" y="4191120"/>
            <a:ext cx="1339560" cy="167616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1" descr="MCj04370410000[1]"/>
          <p:cNvPicPr/>
          <p:nvPr/>
        </p:nvPicPr>
        <p:blipFill>
          <a:blip r:embed="rId3"/>
          <a:stretch/>
        </p:blipFill>
        <p:spPr>
          <a:xfrm>
            <a:off x="7086600" y="266688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13" descr="MCj02352030000[1]"/>
          <p:cNvPicPr/>
          <p:nvPr/>
        </p:nvPicPr>
        <p:blipFill>
          <a:blip r:embed="rId4"/>
          <a:stretch/>
        </p:blipFill>
        <p:spPr>
          <a:xfrm>
            <a:off x="4800600" y="2666880"/>
            <a:ext cx="1827360" cy="12686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4" descr="j0285698"/>
          <p:cNvPicPr/>
          <p:nvPr/>
        </p:nvPicPr>
        <p:blipFill>
          <a:blip r:embed="rId5"/>
          <a:stretch/>
        </p:blipFill>
        <p:spPr>
          <a:xfrm>
            <a:off x="7391520" y="4419720"/>
            <a:ext cx="1207800" cy="129060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5" descr="MCj02857280000[1]"/>
          <p:cNvPicPr/>
          <p:nvPr/>
        </p:nvPicPr>
        <p:blipFill>
          <a:blip r:embed="rId6"/>
          <a:stretch/>
        </p:blipFill>
        <p:spPr>
          <a:xfrm>
            <a:off x="2666880" y="4724280"/>
            <a:ext cx="1594080" cy="12906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20" descr="MPj04388480000[1]"/>
          <p:cNvPicPr/>
          <p:nvPr/>
        </p:nvPicPr>
        <p:blipFill>
          <a:blip r:embed="rId7"/>
          <a:stretch/>
        </p:blipFill>
        <p:spPr>
          <a:xfrm>
            <a:off x="5029200" y="4648320"/>
            <a:ext cx="2057400" cy="12268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6" descr="MCj04125520000[1]"/>
          <p:cNvPicPr/>
          <p:nvPr/>
        </p:nvPicPr>
        <p:blipFill>
          <a:blip r:embed="rId8"/>
          <a:stretch/>
        </p:blipFill>
        <p:spPr>
          <a:xfrm>
            <a:off x="2666880" y="2590920"/>
            <a:ext cx="1401840" cy="1492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7T21:28:54Z</dcterms:created>
  <dc:creator>Barbara</dc:creator>
  <dc:description/>
  <dc:language>en-US</dc:language>
  <cp:lastModifiedBy>Glasshouse Country Christian College</cp:lastModifiedBy>
  <dcterms:modified xsi:type="dcterms:W3CDTF">2014-03-12T03:04:27Z</dcterms:modified>
  <cp:revision>119</cp:revision>
  <dc:subject/>
  <dc:title>If the Book Fits,  Wear It!</dc:title>
</cp:coreProperties>
</file>